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AB3A-47BC-4F2B-8743-1718D2928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31B7-16B0-4171-93EB-103EE4A68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4000-5C41-4E5F-A012-5047EB159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FE58-FC0D-4172-A08C-DFA9D8824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DC09-A1A7-40D5-8A4E-846E7E33CB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1B12-727D-4455-A537-7790ADCDB1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CA28-2DC9-4C8E-9A54-E43AC6446E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C5BF-26FE-400E-AF5D-89D96EEA1F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5B97-E427-4269-86F3-0492ECF728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44E6-81B6-419E-A488-D9228699EC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3FC5-8062-4D85-AF4B-682110D9C8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C4EF-920A-44BF-BF41-56CEAB13A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43D4-8F96-4F0D-B75F-B6CDAF9D82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8253-0904-4198-8082-DB9443CF6F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EECB-F725-4A34-AEBC-4B93320061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D03D-6B45-4199-8313-8A082693D9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0E48-1808-4FD4-80C5-7821451D43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DB5C-5182-4471-BD2A-952DA69BB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44ED-64ED-48CD-8F38-8B0909A4C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C66D-02B0-4125-8C3D-106DFDAAB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4764-AA47-4B7E-B041-BA646A701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F53A-89B6-4A50-9F08-A9516F31D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5B22-69AA-4737-BDA8-8F888DF9E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1C99-4CD4-4D19-BD87-2AC322C29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8A5D0-726A-4B57-911D-99664382855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400"/>
            <a:ext cx="7383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B1B871-F085-4A38-AF8B-00AB28606E37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enagold.ru/fon/clipart/m/mork/mork18.pn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g0.liveinternet.ru/images/attach/c/7/94/575/94575304_565490722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swetlanka.ru/wp-content/uploads/2009/04/zaya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happiness-shop.ru/userfiles/image/test_folder/2-parachute-v-nebe-1024.jp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img0.liveinternet.ru/images/attach/c/0/44/45/44045020_1242642872_4.jp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img0.liveinternet.ru/images/attach/c/3/76/80/76080094_21.jpg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www.nadietax.com/uploads/posts/2013-05/2013-09/1378723867_Tykva.png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3520" y="304920"/>
            <a:ext cx="7386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произведениями малых фольклорных жанров – пословицей, поговоркой и заг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произведениям народного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отгадывать загадки, сравнивать предмет загадки и предмет отгадки, выделять признаки предмета, на которые указывает зага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ть проявление творческой активности детей при отгадывании загадок и составлении своих собств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алые фольклорные жанры устного народ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3520" y="1598760"/>
            <a:ext cx="73864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, в котором один предмет изображается посредством другого, имеющего с ним какое-нибудь, хотя бы отдалённое, схо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алая форма народного поэтического творчества, облачённая в краткое, ритмизованное изречение, несущее обобщённую мысль, вывод, иносказание с поучительным уклон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сочетание, оборот речи, отражающий какое-либо явление жизни. Часто имеет юмористически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Сидит красная девица в тем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а коса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4497480"/>
            <a:ext cx="358128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2351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89548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ленький, беленький,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лесочку прыг-прыг!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снежочку тык-тык!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2504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д лугом парашютики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чаются на прутик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172908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Что можно сказать о людях, сочинивших такие загад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тель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богат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Составление заг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т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свёк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ык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971800" y="2819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90920" y="46864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Продолж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 язык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опись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ом пиш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 бо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ольш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д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мас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ва и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enagold.ru/fon/clipart/m/mork/mork18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девушки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c/7/94/575/94575304_56549072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swetlanka.ru/wp-content/uploads/2009/04/zay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шют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happiness-shop.ru/userfiles/image/test_folder/2-parachute-v-nebe-10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уш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0.liveinternet.ru/images/attach/c/0/44/45/44045020_1242642872_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img0.liveinternet.ru/images/attach/c/3/76/80/76080094_2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кв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www.nadietax.com/uploads/posts/2013-05/2013-09/1378723867_Tykv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6T09:22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